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7.wmf" ContentType="image/x-wmf"/>
  <Override PartName="/ppt/media/image15.jpeg" ContentType="image/jpeg"/>
  <Override PartName="/ppt/media/image4.jpeg" ContentType="image/jpeg"/>
  <Override PartName="/ppt/media/image16.wmf" ContentType="image/x-wmf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18.wmf" ContentType="image/x-wmf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B4258-E8C9-421B-8D64-0F9E0F864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D2006-3747-4A6B-893F-70845B444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62706-51CA-4835-9426-D7BAFBCF3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10BDF-B908-4DE2-80B8-A4F58158B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C89F9-1FF2-4428-A021-AF26D0E99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AAC47-6B4C-4C19-9F1F-202F8FDB0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76465-D7D8-4D44-9D11-777CA7481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FD7ED-0105-4979-BA98-BB53B831C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788C6-8746-4E8D-BEA6-5DC9AB8AC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F36D8-A4B1-4E3A-B3F1-DFF1EA0E0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9FEDE-30D9-44C7-B544-7AAAA6561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F30CF-EB35-4A69-86B1-09A0A145B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B697F-C4E1-47B1-A0CA-0F0355A52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70B54-F6C6-4E48-882A-414FDB635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E288B-5291-45E1-9FA6-5997F9548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C7604-6C3C-406E-B87F-D60C76101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2575D-D62B-4E02-9E6C-DC9CB51FA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46377-7637-47CE-9E67-F458FEF2C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E8585-140A-4801-8412-011C490C2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63B28-7E77-4655-AFBC-7F145FC4C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26022-574B-4FA5-9FEC-F71F5B95B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46B34-75EE-4624-8D2A-102A9A336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A46CE-9A80-4890-919F-539501F0E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16F37-A503-4C96-AA7F-29E9BF58E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98642-35BE-40D6-B75C-35CA55F1514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7150C-FA18-42F5-AD63-BB3497D35BF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7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18.wmf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tatistical Analysis of Solar Geomagnetic Storm Occurrenc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y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th Siva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July Maximum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03848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uly 15th-17th For all K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p &gt; 8 Almost Equal to Equino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as not been explained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astille Day Event (July 14th-16th 2000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ther Dates: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July 8, 1958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July 15, 17, 1959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July 16, 196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July 13, 14, 196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July 6, 197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July 13, 14, 198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July 13, 199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5" name="yeartry" descr=""/>
          <p:cNvPicPr/>
          <p:nvPr/>
        </p:nvPicPr>
        <p:blipFill>
          <a:blip r:embed="rId1"/>
          <a:stretch/>
        </p:blipFill>
        <p:spPr>
          <a:xfrm>
            <a:off x="4267080" y="838080"/>
            <a:ext cx="3962520" cy="2973600"/>
          </a:xfrm>
          <a:prstGeom prst="rect">
            <a:avLst/>
          </a:prstGeom>
          <a:ln w="0">
            <a:noFill/>
          </a:ln>
        </p:spPr>
      </p:pic>
      <p:pic>
        <p:nvPicPr>
          <p:cNvPr id="126" name="julyx" descr=""/>
          <p:cNvPicPr/>
          <p:nvPr/>
        </p:nvPicPr>
        <p:blipFill>
          <a:blip r:embed="rId2"/>
          <a:stretch/>
        </p:blipFill>
        <p:spPr>
          <a:xfrm>
            <a:off x="4267080" y="3886200"/>
            <a:ext cx="396252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4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julyall3" descr=""/>
          <p:cNvPicPr/>
          <p:nvPr/>
        </p:nvPicPr>
        <p:blipFill>
          <a:blip r:embed="rId1"/>
          <a:stretch/>
        </p:blipFill>
        <p:spPr>
          <a:xfrm>
            <a:off x="1905120" y="0"/>
            <a:ext cx="5140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4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julyvequi" descr=""/>
          <p:cNvPicPr/>
          <p:nvPr/>
        </p:nvPicPr>
        <p:blipFill>
          <a:blip r:embed="rId1"/>
          <a:stretch/>
        </p:blipFill>
        <p:spPr>
          <a:xfrm>
            <a:off x="1905120" y="0"/>
            <a:ext cx="5140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robability Kp &gt; 6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41148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bability calculations and why they are importa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istogram maximum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ith high F10.7 found in Mar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bability maximums found in February, March, May, June, July, August, and Septemb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1" name="Prob62" descr=""/>
          <p:cNvPicPr/>
          <p:nvPr/>
        </p:nvPicPr>
        <p:blipFill>
          <a:blip r:embed="rId1"/>
          <a:stretch/>
        </p:blipFill>
        <p:spPr>
          <a:xfrm>
            <a:off x="4343400" y="990720"/>
            <a:ext cx="439884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robability Kp &gt; 7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990360"/>
            <a:ext cx="38862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10.7 &gt; 285 maximums are found in August and Septemb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10.7 &gt; 260 maximums are found in March, June, July, September and Octob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10.7 &gt; 235 maximums are found in March, June, July and Septemb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4" name="Prob72" descr=""/>
          <p:cNvPicPr/>
          <p:nvPr/>
        </p:nvPicPr>
        <p:blipFill>
          <a:blip r:embed="rId1"/>
          <a:stretch/>
        </p:blipFill>
        <p:spPr>
          <a:xfrm>
            <a:off x="4343400" y="990720"/>
            <a:ext cx="439884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robability Kp &gt; 8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-360" y="990720"/>
            <a:ext cx="43434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10.7 &gt; 285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ximums found in Septemb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10.7 &gt; 260 maximums found in March, June, July, September and Octob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10.7 &gt; 235 maximums found in March, June, July and Septemb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10.7 &gt; 210 maximums found in Ju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7" name="Prob82" descr=""/>
          <p:cNvPicPr/>
          <p:nvPr/>
        </p:nvPicPr>
        <p:blipFill>
          <a:blip r:embed="rId1"/>
          <a:stretch/>
        </p:blipFill>
        <p:spPr>
          <a:xfrm>
            <a:off x="4343400" y="990720"/>
            <a:ext cx="439740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ime Series and Monthly Profil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39" name="xsun2" descr=""/>
          <p:cNvPicPr/>
          <p:nvPr/>
        </p:nvPicPr>
        <p:blipFill>
          <a:blip r:embed="rId1"/>
          <a:stretch/>
        </p:blipFill>
        <p:spPr>
          <a:xfrm>
            <a:off x="0" y="914400"/>
            <a:ext cx="4648320" cy="348768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4724280" y="4495680"/>
            <a:ext cx="2438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0" y="4419360"/>
            <a:ext cx="50292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Maximum in Summer Month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Minimum in Winter Month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Double Peak on Equinox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Probability of storms increase with higher solar flux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2" name="sunx22" descr=""/>
          <p:cNvPicPr/>
          <p:nvPr/>
        </p:nvPicPr>
        <p:blipFill>
          <a:blip r:embed="rId2"/>
          <a:stretch/>
        </p:blipFill>
        <p:spPr>
          <a:xfrm>
            <a:off x="4724280" y="914400"/>
            <a:ext cx="423252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BHM Result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2819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Peaks During Night Hour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Minimum at      9 UT for all Kp level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Regular Kp &gt; 6 and Kp &gt; 7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Random Kp &gt; 8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Some Physical Pattern Occur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5" name="BHM3" descr=""/>
          <p:cNvPicPr/>
          <p:nvPr/>
        </p:nvPicPr>
        <p:blipFill>
          <a:blip r:embed="rId1"/>
          <a:stretch/>
        </p:blipFill>
        <p:spPr>
          <a:xfrm>
            <a:off x="3200400" y="914400"/>
            <a:ext cx="541008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6" name=""/>
          <p:cNvGraphicFramePr/>
          <p:nvPr/>
        </p:nvGraphicFramePr>
        <p:xfrm>
          <a:off x="1527120" y="1397160"/>
          <a:ext cx="6087960" cy="4063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7120" y="1397160"/>
                    <a:ext cx="6087960" cy="406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8" name=""/>
          <p:cNvGraphicFramePr/>
          <p:nvPr/>
        </p:nvGraphicFramePr>
        <p:xfrm>
          <a:off x="1515960" y="1395360"/>
          <a:ext cx="6234120" cy="40640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15960" y="1395360"/>
                    <a:ext cx="623412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0" name=""/>
          <p:cNvGraphicFramePr/>
          <p:nvPr/>
        </p:nvGraphicFramePr>
        <p:xfrm>
          <a:off x="345960" y="0"/>
          <a:ext cx="8798040" cy="680544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45960" y="0"/>
                    <a:ext cx="8798040" cy="680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onclusion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25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eak in Septemb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125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eak in Mar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125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eak in Ju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125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eak During 18:00 UT - 3:00 UT (6 pm - 3 a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125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bability for Large Storms With High F10.7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125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nal Overview of All Models and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Why We Study Geomagnetic Storm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lackou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ell Phone Disrup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lobal Positioning Satellite Failu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anger to Satelli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anger to Astronau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ssible Danger to Airline Passeng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Future Plan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25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orking till June 21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25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re research into the July Maximum (DST and Kp 1932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25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riting Paper and submitting it to the Journal of Undergraduate Resear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25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eb Site : www.haystack.mit.edu/~ssivak/haystack1.html   (under constructio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Questions That Needed Answer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re the maximums definitely at Equinox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re March and April the maximums of the year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o Geomagnetic Storms occur randomly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en is the best time to turn on the radar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roject Overview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7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drigal Database (Millstone Hill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7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p and F10.7 cm Solar x-ray Flu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7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950-200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7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ear, MDay, DNum, BHM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7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Gap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17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10.7 : 453 missing days (2.38%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17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Kp : 2 3-Hour missing elements (.00132%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Broad View (52 Years)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52280" y="1523520"/>
            <a:ext cx="2286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1 Year Cycle for F10.7 X-Ray Flu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ouble Peaked Kp Cyc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ownslide Peak Always High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rrelation Between F10.7 and K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0" name="dbar6" descr=""/>
          <p:cNvPicPr/>
          <p:nvPr/>
        </p:nvPicPr>
        <p:blipFill>
          <a:blip r:embed="rId1"/>
          <a:stretch/>
        </p:blipFill>
        <p:spPr>
          <a:xfrm>
            <a:off x="2362320" y="1447920"/>
            <a:ext cx="6476760" cy="48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Year Breakdown Kp &gt; 6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52280" y="1523520"/>
            <a:ext cx="2286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ximum in Septemb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road Peak in March and Apri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inimum during December and Janua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ear double peak on Equino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3" name="Kp6m" descr=""/>
          <p:cNvPicPr/>
          <p:nvPr/>
        </p:nvPicPr>
        <p:blipFill>
          <a:blip r:embed="rId1"/>
          <a:stretch/>
        </p:blipFill>
        <p:spPr>
          <a:xfrm>
            <a:off x="2590920" y="1523880"/>
            <a:ext cx="6253200" cy="469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Year Breakdown Kp &gt; 8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52280" y="1523520"/>
            <a:ext cx="2286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ximum in Septemb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eak in Ju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ouble Peak at Equino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eak in March and Apri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inimum in December and Janua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6" name="Kp8m" descr=""/>
          <p:cNvPicPr/>
          <p:nvPr/>
        </p:nvPicPr>
        <p:blipFill>
          <a:blip r:embed="rId1"/>
          <a:stretch/>
        </p:blipFill>
        <p:spPr>
          <a:xfrm>
            <a:off x="2590920" y="1523880"/>
            <a:ext cx="6253200" cy="469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Vernal Equinox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2280" y="1676520"/>
            <a:ext cx="3200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 Peaks After Equino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eak For Kp &gt; 6 is April 4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eak For Kp &gt; 7 &amp;   Kp &gt; 8 is April 1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igh Peaks Follow in M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9" name="spring3zoom" descr=""/>
          <p:cNvPicPr/>
          <p:nvPr/>
        </p:nvPicPr>
        <p:blipFill>
          <a:blip r:embed="rId1"/>
          <a:stretch/>
        </p:blipFill>
        <p:spPr>
          <a:xfrm>
            <a:off x="3505320" y="914400"/>
            <a:ext cx="518148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Autumnal Equinox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52280" y="1828800"/>
            <a:ext cx="3200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eak on Equino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pt. 22nd High for Kp &gt; 6 and   Kp &gt; 7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pt. 4th High for Kp &gt; 7 and Kp &gt; 8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2" name="fall3zoom" descr=""/>
          <p:cNvPicPr/>
          <p:nvPr/>
        </p:nvPicPr>
        <p:blipFill>
          <a:blip r:embed="rId1"/>
          <a:stretch/>
        </p:blipFill>
        <p:spPr>
          <a:xfrm>
            <a:off x="3429000" y="914400"/>
            <a:ext cx="510552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8T16:03:20Z</dcterms:created>
  <dc:creator>Carla Langdon-Sivak</dc:creator>
  <dc:description/>
  <dc:language>en-US</dc:language>
  <cp:lastModifiedBy>Preferred Customer</cp:lastModifiedBy>
  <dcterms:modified xsi:type="dcterms:W3CDTF">2002-05-13T18:08:36Z</dcterms:modified>
  <cp:revision>17</cp:revision>
  <dc:subject/>
  <dc:title>Prediction of Geomagnetic Storms</dc:title>
</cp:coreProperties>
</file>