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3E8-6667-49C4-AB09-E88917F6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3A2-5F2B-4FBC-837A-C880A7EE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110-5272-4738-A257-0E3DCC1F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730-4F75-4B4A-B475-89D5FC4C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DEF8-52FA-4ED7-B0A7-9BA81009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1ED9-CF60-4D94-B5E5-33C484D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E032-A9C0-446D-94B3-05D4ADE5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C888-1CD9-48FF-90E4-40B14CB4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B29A-17E6-494A-80AF-4639A5CA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F88-75E1-4AFF-8201-8661718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0A1-3B41-4096-8F92-1AB31FC1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FB0-25CB-4840-9333-4D69C76C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1CD8-0258-4073-B1D1-17DFE72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45E-02EF-446C-9073-B57EB8C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4F7-708A-4BEC-80DB-D2632C84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F3C-8F88-4897-85D4-5F0843FA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EB86-7751-4A5B-9408-DEF4FFB4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252-C968-452C-860D-7EE9ACB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2B5-D14D-4412-8B0E-FD93A50C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818-5BE3-4321-BD73-7F0FC14E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C1D-499C-403D-996C-C9478A9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6FD-A1B8-46DF-87AA-EF426CC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E35-B7CE-42C1-AF70-58EC82B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1AC-C76D-49E9-A1E0-29936F8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ABEA-29B0-412C-A1AA-D983C57D8C4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000000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1c1c"/>
              </a:gs>
              <a:gs pos="50000">
                <a:srgbClr val="000000"/>
              </a:gs>
              <a:gs pos="100000">
                <a:srgbClr val="1c1c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c02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0c02d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648-7C52-41B0-B7A5-E7C6BDBB3FB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000000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1c1c"/>
              </a:gs>
              <a:gs pos="50000">
                <a:srgbClr val="000000"/>
              </a:gs>
              <a:gs pos="100000">
                <a:srgbClr val="1c1c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c.noaa.gov/today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Statistical Analysis of Geomagnetic Storm Occurrence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h Sivak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Storms and Their Problem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Aurora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lectrical Blackout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ell Phon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Global Positioning Satellit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Other Satellit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Astronaut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9" name="page07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4197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Measuring Storm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164" name="20000716_kp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Space Weather Right Now!!!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166" name="NAS3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57400"/>
            <a:ext cx="6148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hat Did I Do?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9" name="dbar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Data Analysi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de Writing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ata Plott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586800" indent="-225720">
              <a:spcBef>
                <a:spcPts val="575"/>
              </a:spcBef>
              <a:buClr>
                <a:srgbClr val="000000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Equinox</a:t>
            </a:r>
            <a:endParaRPr b="0" lang="en-US" sz="2300" spc="-1" strike="noStrike">
              <a:solidFill>
                <a:srgbClr val="000000"/>
              </a:solidFill>
              <a:latin typeface="Impact"/>
            </a:endParaRPr>
          </a:p>
          <a:p>
            <a:pPr lvl="1" marL="586800" indent="-225720">
              <a:spcBef>
                <a:spcPts val="575"/>
              </a:spcBef>
              <a:buClr>
                <a:srgbClr val="000000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Yearly, Monthly, Daily, Hourly</a:t>
            </a:r>
            <a:endParaRPr b="0" lang="en-US" sz="2300" spc="-1" strike="noStrike">
              <a:solidFill>
                <a:srgbClr val="000000"/>
              </a:solidFill>
              <a:latin typeface="Impact"/>
            </a:endParaRPr>
          </a:p>
          <a:p>
            <a:pPr lvl="1" marL="586800" indent="-225720">
              <a:spcBef>
                <a:spcPts val="575"/>
              </a:spcBef>
              <a:buClr>
                <a:srgbClr val="000000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Zoom in Seasons</a:t>
            </a:r>
            <a:endParaRPr b="0" lang="en-US" sz="2300" spc="-1" strike="noStrike">
              <a:solidFill>
                <a:srgbClr val="000000"/>
              </a:solidFill>
              <a:latin typeface="Impact"/>
            </a:endParaRPr>
          </a:p>
          <a:p>
            <a:pPr lvl="1" marL="586800" indent="-225720">
              <a:spcBef>
                <a:spcPts val="575"/>
              </a:spcBef>
              <a:buClr>
                <a:srgbClr val="000000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Kp Vs. F10.7</a:t>
            </a:r>
            <a:endParaRPr b="0" lang="en-US" sz="2300" spc="-1" strike="noStrike">
              <a:solidFill>
                <a:srgbClr val="000000"/>
              </a:solidFill>
              <a:latin typeface="Impact"/>
            </a:endParaRPr>
          </a:p>
          <a:p>
            <a:pPr lvl="1" marL="586800" indent="-225720">
              <a:spcBef>
                <a:spcPts val="575"/>
              </a:spcBef>
              <a:buClr>
                <a:srgbClr val="000000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Impact"/>
              </a:rPr>
              <a:t>Colors and Plots</a:t>
            </a:r>
            <a:endParaRPr b="0" lang="en-US" sz="2300" spc="-1" strike="noStrike">
              <a:solidFill>
                <a:srgbClr val="000000"/>
              </a:solidFill>
              <a:latin typeface="Impact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87960" y="2041560"/>
          <a:ext cx="380376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7960" y="2041560"/>
                    <a:ext cx="380376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falltry6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48769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quinox Maxim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July Maxim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Predicted Maximum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7" name="yeartry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8672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Resources and Link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ww.haystack.mit.edu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ww. SpaceWeather.co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ww-istp.gsfc.nasa.gov/istp/events/monitor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ww-istp.gsfc.nasa.gov/istp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ww.lmsal.co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cience.msfc.nasa.gov/ssl/pad/solar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anopy.lmsal.com/schryver/Public/homepage/weatherstation.htm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Special Thank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Keith Wood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harles Fitz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Larisa Goncharenk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Joe Salah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veryone Else at MIT Haystack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hat Does That Mean?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olar Cycl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olar Disturbanc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e Earth and The Magnetosp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Geomagnetic Storms and Their Proble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easuring Stor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he Solar Cycle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11 Year Magnetic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08520" indent="-30852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10.7 X-Ray Flux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08520" indent="-30852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un Spot Number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08520" indent="-30852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27-Day Rotation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1" name="NAS25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8006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Solar Disturbances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olar Flar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ME’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ronal Hol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olar Wind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4" name="NAS19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5720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he Earth &amp; The Magnetosphere</a:t>
            </a:r>
            <a:endParaRPr b="0" lang="en-US" sz="4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hat does it do?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ffects of Solar Disturbanc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0" name="mag_240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48006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magsph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2:11:48Z</dcterms:created>
  <dc:creator>Carla Langdon-Sivak</dc:creator>
  <dc:description/>
  <dc:language>en-US</dc:language>
  <cp:lastModifiedBy>foo</cp:lastModifiedBy>
  <dcterms:modified xsi:type="dcterms:W3CDTF">2002-04-30T16:54:35Z</dcterms:modified>
  <cp:revision>10</cp:revision>
  <dc:subject/>
  <dc:title>Statistical Analysis of Geomagnetic Storm Occurrences</dc:title>
</cp:coreProperties>
</file>